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658-CBED-46A8-9B51-DE20F2A4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6BD-3981-4642-A74C-92C9889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D7B-2C28-45DE-88BC-4AC7FAAC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189-3072-4F2C-A403-7214B055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662-46C3-477E-9177-44596063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394-00AB-47C0-A08D-EF87C5B6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E18-10F7-4203-A4D0-BF5828D4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97E-3D06-4E20-96B6-541CE5F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FE3-CD27-42F5-9F63-ED7E997D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775-A8D8-4331-AD3E-FBC4C9D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ACC-EA40-4D09-A90F-1021A45A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A1F-CDDE-44C6-80B1-E8518FA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F74-F5AB-407B-BF26-BA162F04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ลุ่มที่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พัฒนาคณาจารย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นโยบายต้องชัด ทุกระดับ และต้องแตกในทุกประเด็น ครอบคลุมในด้านงบประมาณ ระยะ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ยายามทำให้งานวิจัยเป็นงานประจำให้เป็นระบ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ทำงานวิจัยแบบทีม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365720"/>
            <a:ext cx="82296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วลัยลักษณ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นำเอ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Based Learning : PB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าประยุกต์ใช้ให้เหมาะสม ทำให้นักศึกษาสนใจในการเรียน กล้าแสดงออกมากขึ้นเกิดการทำงานเป็นทีม  นอกจากนี้ส่งผลให้อาจารย์เก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มหาวิทยาลัยมหิด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รวมพลังอาจารย์มหาวิทยาลัยจัดกิจกรรมร่วมกัน มีเครือข่ายในทุกๆ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ิจกรรมพัฒนาความสัมพันธ์ระหว่างอาจารย์ เพื่อสร้างแนวคิดในการบูรณาการด้านการจัดการเรียนการสอน สร้างความสัมพันธ์กับเครือข่ายทั้งมหาวิทยาลัย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0766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นเรศว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นโยบายผู้บริหารชัดเจ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จัดสรรงบประมาณเรื่องต่างๆ อยู่ในระดับที่รับ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เสริมแรง การให้ค่าตอบแทน โบนั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หาวิทยาลัยสงขลานครินทร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วิทยาเขตตรัง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คณะกรรมการสนับสนุนงานวิจัย ซึ่งก็คืออาจารย์ในสาขาในการขับเคลื่อนพัฒนางานวิจัยเชื่อมโยงกับวิทยาเขตอื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ทำงานวิจัยเป็นทีม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ะบบพี่เลี้ยง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นโยบายชัดเจน มีเงินทุนสนับสนุนด้านงาน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มาตรฐานกำหนด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ต้องมีผลงาน หรื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ต้องมีผล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วิทยาเขตปัตตานี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หาวิทยาลัยมีวารสารเพื่อให้อาจารย์นำผลงานมาตีพิมพ์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อาจารย์ที่เป็นนักวิจัยหน้าให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นโยบายชัดเจน ออกเป็นประกา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ราชภัฏมหาสารคา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ทำงานวิจัยร่วมกัน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หว่างคณะต่างๆ ในมหาวิทยาลัย เช่น คณะเกษตรฯ ร่วมกับ คณะวิทยาการจัด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น้นให้บริการสู่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ให้อาจารย์ร่วมกับสถาบันทั้งในและนอกประเทศ เพื่อแลกเปลี่ยนอาจารย์เป็นการสร้างเครือข่ายแลกเปลี่ยนเรียนรู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ดกิจกรรมให้อาจารย์มีจิตสำนึกคุณธรรมในการเป็นอาจารย์  รักลูกศิษย์เหมือนลูกตัวเ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จัดท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ook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ลดการใช้ทรัพยากร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รายชื่อ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รอนงค์    ขันเดช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นุวัฒศิริ       พุทธิดิลก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อำนวย         วิชัยวงษ์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นันทวัฒน์    ฟองมณีมหาวิทยาลัยวลัยลักษ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รสีห์    วัฒนวิกย์กิจมหาวิทยาลัยวลัยลักษ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ิชาภา        ชัยชาญมหาวิทยาลัย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งสโรชา           อ้องแสนคำวิทยาลัยบัณฑิตศึกษาการจัดการ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ิติกานต์      จันทร์แย้มมหาวิทยาลัยสงขลานครินทร์วิทยาเขตตรั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งพิสมัย           เพียรเจริญมหาวิทยาลัยสงขลานครินทร์วิทยาเขตปัตตาน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พญ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พินดา  คูณมี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ผ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นันทา         วิบูลย์จันทร์มหาวิทยาลัยมหิด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มบูรณ์           เทียนายา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พ็ญศิริ     นภีรงค์มหาวิทยาลัยนเรศว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ชาญชัย             รัตนวิบูลย์มหาวิทยาลัยนเรศว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ัญญา         ร้อยสมมุติ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พัฒนาการคณาจาร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ฐมนิเทศ และอบรมอาจารย์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พี่เลี้ยงสำหรับอาจารย์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พัฒนาอาจาร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ึกษาต่อระดับปริญญาเอกหรือสูงกว่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องทุนตำร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วิจัยเสนอผลงานทางวิชา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ำนักนวัตกรรมการเรียนการ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การประเมินบุคลาก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ประเมินการเรียนการสอนโดยนักศึกษาผ่านออนไลน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ับระบบค่าตอบแท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ถาบันพัฒนาทรัพยากรมนุษ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ณีคณะแพทยศาสตร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ด้านคุณธรรม จริยธ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ฝึกอบรมด้านการเรียนการสอน และการให้บริ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มหิด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ด้า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สนับสนุ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พี่เลี้ยงนักวิจัย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ีมวิจัย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ร้างเครือข่ายวิจัยร่ว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ดเวที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ด้านการเรียนการ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นโยบาย ด้านอาจารย์ใหม่เข้ารับการฝึกอบรมด้านการเรียนการสอน โดยใช้แนวค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แพทยศาสตร์ศึกษ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ุ่นๆล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ใหม่อายุงานต่ำกว่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เก่าจะต้องเข้ารับการอบรมทุก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ึกษาดูงา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บรมด้านการศึกษาโดยคณะหน่วยงานให้การสนับสนุ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สงขลานครินท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รับทุนการศึกษาจากสกอ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ฉพาะวิทยาเขตปัตตานี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ทเรียนสำหรับอาจารย์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– Boo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เรียนรู้ด้านการพัฒนาอาจารย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เรียนการสอนระหว่างวิทยาเข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ค่าตอบแทนให้กับอาจารย์วุฒิปริญญาเอกในแต่ละวิทยาเขต เช่น วิทยาเขตปัตตานี ได้รับค่าตอบแท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,0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าท วิทยาเขตหาดใหญ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,0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าท โดยมีเงื่อนไขว่าต้องมีอายุการทำงา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ีขึ้นไ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นเรศว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นับสนุนการพัฒนาด้านภาษาอังกฤษ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อ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F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พื่อเรียนต่อต่างประเท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ระบบการให้รางวัลแก่ผู้ที่ได้รับตำแหน่งทางวิชากา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าสตราจารย์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ฝึกอบรมด้านการเรียนการสอนอย่างสม่ำเสม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่งเสริมการเรียนต่อในระดั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Doctora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ดยมหาวิทยาลัยให้ทุนสนับสนุ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รรหาอาจารย์ที่เรียนจบปริญญาเอกเพื่อพัฒนาเป็นมหาวิทยาลัยแห่ง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ะมีเงินรางวัลให้กับผู้ได้รับตำแหน่งทางวิชาการระดับศาสตราจารย์ จำนว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,00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หาวิทยาลัยราชภัฏมหาสารคา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ชุมชน พัฒนาชุมชน ให้ชุมชนมีส่วนร่ว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ัดทำแผนพัฒนาบุคลากรด้านการวิจัย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ชุมช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การศึกษาต่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ะตุ้นให้อาจารย์มีจิตสำนึกรัก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งเสริมให้อาจารย์มีวัฒนธรรมที่ด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ระบบประเมินอาจารย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งเสริมให้อาจารย์มีการอบร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ฐมนิเทศอาจารย์ให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อาจารย์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ากประเทศเยอรมันนี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นักศึกษา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ยอรมั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วียดนาม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วลัยลักษณ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นโยบายหลัก พัฒนาอาจารย์ปริญญาเอก จากเดิ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%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ภายใ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รับอาจารย์ใหม่ถ้าไม่มีประสบการณ์ต้องนำเสนอผลงานวิชาการเพื่อเป็นข้อมูลในการ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ศึกษาต่อ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จะถามความพร้อม ให้เวล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เพื่อการพัฒนาเพื่อบรรจุเป็นอาจารย์ประจำ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ประเมินจะประเมินปีล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ครั้ง เพื่อปรับเป็นอาจารย์ประจ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ุน มีทุนอบร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-15,0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าทต่อปี บางรา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0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ต่อ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บรม จะมีโปรแกรมสนับสนุนด้านการออกข้อสอบกับการเรียนการส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BL / e-learning / M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บรมภาษาอังกฤ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ักษะด้า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(power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ศูนย์สอ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8:16Z</dcterms:created>
  <dc:creator>User</dc:creator>
  <dc:description/>
  <dc:language>en-US</dc:language>
  <cp:lastModifiedBy>User</cp:lastModifiedBy>
  <dcterms:modified xsi:type="dcterms:W3CDTF">2010-03-22T09:00:20Z</dcterms:modified>
  <cp:revision>4</cp:revision>
  <dc:subject/>
  <dc:title>กลุ่มที่ 1 การพัฒนาคณาจารย์</dc:title>
</cp:coreProperties>
</file>